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9DF9-AE7C-449D-AE6C-932781A51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89F5-1A5C-4311-B01D-0844828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56BE50-504E-4DB0-A3F4-59EE7174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49FC86-B7CC-47B2-98DE-EB10237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B97147-55E0-4410-973B-9D37438A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D51A26-434F-4062-9477-7E6131C0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47917E-ABF5-4E7A-B1CC-A7CC6C8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F0C05-CD17-4F98-BFEF-324535E2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98E13-5AD6-455A-BA6A-2CD455DD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D717E-1C0E-46BF-8C84-D95DE67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4A6E6-E3EB-4984-BCC6-0D9E074F3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7122A-53DF-4B3B-8FF7-56AA1F34E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6326-BFA3-4B33-ACAC-396BA8F7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2F95-46B4-46B6-BAD0-05A1D296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8A96-6BDD-40AD-AF39-4DDD3379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B41A8-D128-4090-BBB4-5788EA5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A0E7-39CD-4C50-AFF1-1A28FB06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8A512-D77C-4B02-8218-137A73BD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3330-965F-419C-9A3E-E53CF200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E4FFE-BD61-4546-ADF9-74ADD0B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CF980-21B4-498F-9271-BEC64AC4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2BA81-DEE3-4202-8D03-20FF963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E3701-79AC-4490-BE91-CE660CAF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B43E-BC35-4A42-BBF2-293E699941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5A80-90DD-47C8-A72B-60AD957F6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B84A3C-38CF-4D7D-91E1-F1A8FC72D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06F7D-C202-4907-A9B5-3880DE0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51698-ED97-4B78-A492-E139DC0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4A20C-C73F-4BCE-8969-2DB6D518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05DDC-80E3-4BAD-B688-8FD6F29D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0DAFE-E9EE-4A57-AF3D-D6CB2F8C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3AFD4-5C57-4E70-9CA4-291DE48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5E904-1BAE-4442-8CF0-D75C2B5B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519B3-4921-497B-A8D1-266F2A0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61689-BD6B-4CCF-91ED-B89B23910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1E5B8-51F6-4829-89BA-1757DA3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9E97D-948B-4899-9A6C-ACC7479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98944-751D-4A48-B5A5-77CF64800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1B975-2514-4568-A3A7-81850B288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A518D-0914-4420-AD2B-C0CA7C7F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EA70D-5E5F-4CDD-A345-0838DF9C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320E7-B0FA-4954-899C-20AFF11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E9704-95B2-45F0-90CB-B90F5F09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687A8-A7C3-4A3E-B76B-4B3C163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4E8D5-2B67-496C-98E0-26D3B135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E9064-9E09-4F0B-81D0-E0B302C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5E99A-65C5-485B-8AC1-19AB2EA8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D5FDA-D875-4F83-8455-1A174B20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5066D-4E25-4A31-9AD4-D4D30B56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7749B-AC27-4F27-88BE-470147E7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7C82D-01B9-4A01-BC2E-AF78F08B3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F677C-1881-4802-8176-3D42DC7EF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6ABAB-7094-4FC0-9266-5D509B14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4625A-FC65-4981-AED0-6F4C893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3E5E5-7ABD-4548-8383-1CC85E59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5AD27-E6D2-40A1-9B31-0971051C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69FE0-7759-4D06-AE59-DDAE6C40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6FB75-D36A-4B3D-8FF2-0609323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A0071-C8D8-4765-A20C-B263F53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C3F2A-E99D-41AE-9E03-1D10524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BDAA9-2225-44AC-BCD8-3097A5DC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29A29-7D6C-4C05-BF69-BD1D0FC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4E6C7-1B52-4AE8-95DA-C2F44CE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D080E-63AD-4EA4-9116-39FDB9DDAE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3C179-F10F-4287-BA4D-F6A30C286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4F7A29-BCA6-4C89-9CD1-F57F76CE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D7998-5D1D-466D-B15E-F0AE4261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DC6CC-CC7B-460F-8AF9-6B0E10F9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5A767A-F495-46DF-A9D0-6D915714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88A0D1-E899-4133-ACC6-F049B11B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0BD70E-A5F2-4CF3-B95E-E092A6C2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E2A85-136D-4159-BE34-9DADCAC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A5D741-4C9E-4827-AB8B-5E7C581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C91A79-832E-4F78-90C3-0CDCB39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17B4A7-40D2-44F8-AD27-7816B46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5603E2-DF7F-4E60-A84C-8CAB119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6D430B-F574-4606-A258-9FBD7F14B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CD0DA0-D2B5-43F4-85C0-B846A3E01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3D445-A1B5-412A-8208-F9CA7E26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29791C-0F8B-41C4-A27B-9C206042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C6E833-AA74-4E31-8677-B24B246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08A444-1670-4391-8B68-7FBA487B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69DBA1-DBD8-41AB-BF67-87214AC3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13FF99-F085-4852-B1D1-F5496CD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E96E2F-0C0F-4C5E-BBD3-4765310C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75A8CA-9980-404A-B6FC-32439089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3AECAF-17F6-4BC0-88DE-7F4CB74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A478C5-0E42-472E-A774-2BAF4BE4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AF2A45-9DF8-4432-A45A-195C925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8943C-B960-4F98-9D35-436064EF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2400C7-242F-46B0-BA46-D4EA20844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D6F8F-515A-4FF0-863A-C3DFAE39E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8FE4-A025-483B-B667-E8BFD0B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6F7B5-FB53-4808-B7EA-D53BD6A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99682-58A0-4457-8341-E702953C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465D9-4B22-4EF0-825E-5CA255FE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414E-A8DA-4614-8E8E-0E48940C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27EF-C338-4713-A48A-1AAD17A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1ADDF-4F20-48F2-A385-C61FE66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2ABF5-B60C-4AC1-BE23-D82F0B4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9601D-A89A-482C-B05F-5DA8497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1D3FA-95D0-417D-B245-08DA1225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94825-4B5A-4E25-B494-DEC38E0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8F19C-076A-4F0C-BD88-79C410BA1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4DF8EE-504F-470C-AE09-588726A73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F6FED5-1FA5-429E-AF72-BD90F583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5A7CC0-5A87-43DF-A14A-7BF0C01A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3EDBF4-5961-4E37-AEAA-0BFA4FC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D12CDF-8FA8-49C9-8197-4650D7F4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BC296A-A228-402E-B39D-BC4A1D62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4DFC2F-04BA-48EC-9F1E-ECF6135E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3310-D587-40DD-8C5E-8E4C89A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FF671-984D-4F51-9877-4E1BA7E3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D458F4-6006-4C2F-A096-663BB8CC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4B45E7-C1D6-4084-B648-4FFD44C0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A1C7D5-9977-4C61-80B0-FF3A146F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C24F49-FF92-4924-8435-B5D442C8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FFE9D7-2EAA-4EDB-8307-0D4A2E158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0FDD67-7D64-478B-B4B3-C97A6B6FB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00FE7D-3834-4408-8FE9-31442AEE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3C2F91-C09A-43EF-86F0-1C99EAD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324ACF-75A3-4AE2-AD82-DC9630C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543C2A-E6FB-463C-BBBB-AF12A90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F95F6-F84E-4EFC-B865-F793830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C45CCA-5216-4F03-9F42-6A4CFCD4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B07333-E9F6-4BCA-9ED6-B38D5E0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4C949B-37EB-4124-8B13-908FA768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1282E4-1355-4A7B-8B65-76C96CD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E6AAB6-2640-41CB-BA87-87EB34C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063ABA-7708-4253-A3D9-DFF499A1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99D7FF-0259-472A-AA58-3E27A366B3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82813-86E5-4F2D-A13C-454DEB57A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51D9A-902A-4559-80D6-8D94E9C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BAB66-F8CC-4090-929C-6A2B9F4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24B41-50F6-4F82-B1E3-6EB7B15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8938E-A2C2-4C21-8AA9-07D9E2C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775ED-E106-42D1-A0BB-23C9691A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4A274-B91E-472F-A804-A61DB6B9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52597-A011-4AA9-A8B2-1B34063A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B17A2-0CF4-46E9-B423-75DD17B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CBE86-31F1-451F-A532-2CFD1774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DD53E-1D1B-4DBD-882C-FCA64FD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DA3A0-834D-46EA-81D0-530190F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AAFB2-1D30-44C3-B11C-DF2B891DC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67439D-A72F-4FD2-8781-CFE332CB62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35FE5-D247-4320-8CF3-B3988D8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8571FA-A259-4490-9E0F-C401C58D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B03F28-6042-4A6F-8994-DB7AF08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5DE3D8-2504-4601-8EE4-743B3C6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87E7FF-4B87-461A-B818-80648C1D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203B84-3C97-4855-A42B-068727BE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C6AD1D-CEBF-428B-A602-51E65DEC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8B4A8D-A2BB-4224-85A9-306D2CC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CCD24C-25C7-4236-8C44-17657F2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85BE38-FA63-4169-92B6-F4F26B60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869AA9-7E43-4086-95DB-3530743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F6676-C5B1-4883-BB13-A06B32FE4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8C2A6B-F4B0-4BFB-A6E1-C8797C1291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C41E6D-8760-4568-BC8B-C436FE323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799E86-C592-4E12-8C28-0C1199AE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F53AF7-C878-4B1D-BA59-CB1DECB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438BB5-9FBF-4298-804E-487FAA78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12A1E1-A428-423C-82E1-93765812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DEC8F6-2631-4FAC-856A-963D1761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EE6175-2C63-4F1C-8AA6-B2276D0F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4B8B2A-281E-42C1-9044-6B7FCFBC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BED874-14D7-4576-BF84-A91B385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26F45-6BD1-4269-BBC4-2F4550C7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1408F4-C381-4183-944E-1B91F34C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ED1B69-5DBC-4CED-9DFB-BE6A980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B9BC2A-6546-4344-8388-4463F222C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F6E5A-B00B-45B4-84F5-A9B3C9457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24815-1418-4A64-9012-1717556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D3A77-140E-4ADF-B5ED-D16D626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29802-2A82-409E-9DA4-31C117D3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C35C7-8EC3-4F65-8A4D-A5125505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96EEB-E633-499B-BCAC-C4C0A6C4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58890-E14C-4F08-A3B1-91D5A36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78CF0-CD16-44F7-8EE1-EEFB92D1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A07D6-D4D9-4455-982E-9D3D329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BA595-F06C-4A94-8BBD-B22035C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74F5C-A09B-49CC-B96B-2220233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486D0-3F2A-4071-A50B-653E9A6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1DFE1-BDBF-4281-B4B2-FD051C8514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CDAA45-738D-4C97-A269-002C918EC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B2EA24-5D94-48E4-856F-EBDD9731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F01A62-6F33-432E-BBAE-61045228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2B6432-6B19-455D-B090-956EDBE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5231E7-296C-4D46-87C4-3A03015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FDF0A-1B15-4149-9390-095FC30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262D2B-5F96-42FB-A71A-1A82D61E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8D181D-AA6F-49B2-ADF0-AB10D08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5FDF49-CBBD-4773-B97D-2F1D9852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AEC5C6-2936-49EE-8004-0C8AA78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09821A-E99D-4CF5-8D80-8AB35B5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324703-BC34-4695-A839-466A0B9F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306B41-5F76-46B0-8E86-6F7E371505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B4194C-1A7A-43C7-A26F-60E419C12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DA44FC7-78CC-473D-AF81-8DF06AB1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90C578-7BED-4026-9C4E-BD6630F9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FC8A6-A708-4D01-97CE-4AA7DE4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35B8D97-7F5C-4914-A973-5F8C47E5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A9645F-61A6-4483-8816-8F0F8D5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3FF646-11ED-4CDB-8F11-579A4E3A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BE9634-E570-4874-B371-6BE532E3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3A674F3-0C23-4B8E-9C36-47162C24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55D10A-D800-4172-B883-F0F7A022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39B8D8-AA71-4572-A139-02C877E6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673CDD-93D2-407C-B77C-589B687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1F6A8E-F22E-4C3C-A068-86EA863914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28A15-E336-4579-AA39-F044199A5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697DB-9D3C-4100-A35E-7E5BF361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2BDD3-2075-4420-B503-8EF809E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86AE8-8126-4FA2-8261-1AE4D66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A79AB-EA97-48B7-9312-E38966F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C5FD1-87CA-4A99-B36A-9E7FF70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6F5A2-8B50-42D6-BAEF-EB2500C6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CA49E-B84D-4235-BFC1-992CAD8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1207D-C907-41E7-9C32-1B68DD7A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E3241-3FA4-4F48-A230-6104883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564A5-833A-416F-BC8B-73616036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89D80-0AB9-49B4-9B56-1CB2882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9F3B-D5B9-443E-A35E-96F92C8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2D52E-563C-4A32-98BE-2784A24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1F3F7-AB79-450A-9287-50955815C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A9C5C-6EC3-40B3-A380-E8C61F72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D1329-7E2F-458D-B2D9-9936C3CD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B18FF8-3056-4E0D-AF10-F28C1382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ABD8D-0A9B-44CA-BA24-AA28600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7F4C6-7CA4-4900-B9C5-9734341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32E5C-2E18-4DA6-88C3-18A706A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A129C-37FC-4CE5-B2D9-A1B6084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7B2E6-E0C6-4F3B-81DA-14D91F1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74240-009B-4246-9C49-D706FA8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66401-160D-45D8-B1B4-7E993FA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7477B-A270-47B5-A21B-2B3361EB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9BC50-50DC-40C9-8EB5-358C3B4E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116F4-7D86-4519-B3F0-28BDB684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975C5-AFC4-40AE-8844-CC879F96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49946-F184-4CD8-BD7F-6CD4BDC2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41665-953B-4F7C-9D3D-9B94ACE7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98FF8-E2AE-4463-A964-EF5D1D6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B8B7E-3AC3-41FF-8ABA-1E16D3BD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40BD8-E299-4799-B357-4ED721D3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3119D-D1CB-4C6E-915D-E68C1B7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F14B8-0A01-4902-BD70-AB04976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7605F-A337-4D00-827D-4AE4F0E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A7514-AF65-482F-B635-126BE5C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EFCA8-464A-4998-854F-17D2ABE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518AC6-4BCD-4A7E-A4D9-07AA9F57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CF29A-D3BD-412F-B195-8B688606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CB506-32C4-4A71-9850-2EDF66A9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2B3D4-1470-4866-B442-2874A10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F8A7F-DCA3-4320-AEFB-DBCC9E0D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B313B-0C1F-4D76-B6AE-9BB8C4E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60A81-6437-4EF1-B94A-0ABD1A0F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F4A20-A74A-4A47-BFE0-79DA772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F314A-43F0-4691-871B-65711F26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DAE67-C8D3-4F8E-8540-772E2EF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9D946-07F5-45CB-A37B-750FB8C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CF81B-0BC7-4835-A959-88FFCDA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A3B573-EB86-4FED-B4E0-99C5544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31208-CE51-4450-ABCC-3AD10F45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1E7E9-51C4-4A5F-804E-8E92B438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598E3-E6AF-460D-BC03-8EF0EA02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68454-4384-4A80-8A5E-B67D167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200F2-BE1B-44AE-B111-0F6CB512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0D37F-3578-412E-BD57-9C718407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4C37A-A86C-4DA7-AD2C-CB16A4F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53D56-4712-466E-B03D-936D2F92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00ADB-08E2-422B-A375-A8816BC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641DD-9F65-406E-B809-35765F80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525CC-D938-4F03-A108-0960D10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E2551-FEE5-4F18-AE99-140D8E2C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DD142-B54E-44F9-80EF-82274172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C9FE2-7553-4BE6-A8E6-213505E7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82B5B-4B67-48D9-ADCD-67F8CDFE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440DF2-6BC7-4991-8EA9-7E45DC7C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DAB8F-164F-42DC-815C-D6082A4D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DDE29-0D22-4F7D-98C0-179E57B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0B453-7C48-42A3-AAF1-07DA9775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75588E-D846-40BB-BA09-ECB2871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783617-AB59-4FB3-AA4C-714758CF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2C1D8-AD2D-4141-ABA4-1A7233A5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0DAE8-03CD-42DE-8AAD-681A109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D1CF4B-417F-4A9A-AB7F-5842C92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BC8BB-BE7B-4DC9-92B7-157F345F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CBED3-FDF5-4F03-80C1-B556E1F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374F73-A134-401D-884C-3AC3D339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77B11-9803-4B17-B278-D4B46B47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31FB64-6A3D-459F-996C-62447270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FA172-8863-44BF-957E-5E9C51D9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79779D-BEA3-476A-80C5-0E489C6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16801-56CE-48B3-A62D-F881502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93DBBF-37FB-4FD0-A65F-6AE92FBC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E99B6E-6566-4BA1-9B97-8125883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8ED197-33C4-4409-B42E-99FFB197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5A4DD-68F6-457C-ADCB-2626B13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D94A8-1A83-496F-B004-3AF413C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99AA5-0467-4B43-99F0-33A9E6C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125B-B1F4-4DA9-94A0-2DDBC82D7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DF3810-1092-41F0-8F9B-07899C60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A62E1-4DD2-4FDB-BA08-9CFF9245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FB2F2C-12B9-459C-A786-572DE5E7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6B739-4238-473D-A61D-DA247086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DEDE96-65E4-446C-A335-1EC4C63E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820626-7A34-4FAA-9AFD-890D3DF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1A596-BD75-4922-B631-4F0D370D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D3FAC-89F1-4A5E-8C04-5245942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A85865-DFBC-4B9A-A565-DCB95279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E8E585-271E-43F9-82CD-378DEBF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6274-D785-464D-B892-95A39916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AA5343-48F9-4DB5-BBBE-B7E688E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5D4F9-88F5-4453-ACFE-604D37D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BA3EF1-5610-4187-85B4-7CEE4E6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A9BBBB-8DCB-4631-9293-874E9098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D3EF11-DD6F-4CCA-A1BA-994D1847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9DD4E8-9FD1-416D-8380-BEF300B3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B1E216-4F1C-47EE-95AB-62ED3C47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E038D7-C4F4-4CFE-BDE3-C79B6DE4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8FE9B-686E-4E00-9B68-295258C2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299D3C-3F1A-4D2C-8C2C-7187322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ABF0-77BD-4D0E-98C1-01A709D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4979C8-25B6-40B7-81B8-C447020D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E796CB-02A5-440D-819D-E5F0135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BE2420-F11D-4851-A823-91339AF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E86B2E-5B3F-4391-A169-304252B6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598075-83A7-4627-8956-15922B1A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D599CA-192C-48B7-9B0E-C9D5F41D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F79B92-FB54-4C36-8F11-961EB784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9A9F2F-B084-492D-81CA-91993462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5162FD-A1EA-4828-A7D3-30827EE4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057926-789E-44A8-85F1-838D62B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B089-3018-4BFE-B5F5-43275C06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7C4FB-74A3-48F9-8F0F-BF81ECD6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9A149F-86DB-4E15-9540-4B6B304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7256A1-4449-4949-97C3-10D94E61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4EBBDB-8B54-497B-8799-B7EA8385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6AD07-E06B-435C-93D2-74D1649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F73573-D0A8-4E1F-B95C-5945B3F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E755EE-FA58-4BC5-8C70-BA0CB3E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173D6A-DF34-4D22-9E83-C6413200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3F6039-BF90-4192-B087-F025E6BD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4769DE-33F7-4E11-87A1-1063D1BC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387B09-CB76-4249-932A-C2B80C58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EDFE-3172-419E-9CAB-880EC260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365CA1-73A8-4C86-9801-B3F6C29E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1AC552-2923-4559-8353-E8F308B0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E67308-8B46-45EA-8B43-FDB3B14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3D07BD-4468-4A2D-BF39-90F84EC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D534C3-6C29-4DA6-891E-59E1B50F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79F759-7AFA-47BF-8A3F-9B63680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6797F0-FEE2-4B91-ABD9-E479E94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F9A439-D41F-4760-BEB0-B480E44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F0C091-86AD-40F2-99C9-F375624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AAF36C-0A07-4569-9603-B8B8D9FB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7701-4A30-4CE6-BA7B-B5A72052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EEB5FC-1167-4073-9425-D0CBD976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03B787-E7DE-4031-9FB1-B7C973AD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84283F-6E7D-4900-B1C7-0C3A1C5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A953FB-0460-49A7-B6DE-FD564D2D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298245-18B7-479E-B226-042C4778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B3A4A0-345E-49E9-B1EB-9DB8A405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F7896B-2E77-4CDD-83BA-2DC3ACCB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F8AF2A-E091-4D75-B853-94CEC3B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77A6D1-7626-4E16-9B58-1B9E740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3DD610-0542-4B5E-8745-0B1FC4E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56E6-0786-4C16-87B8-99C3DD2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3DAD6-6844-460F-9070-FD043751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F41639-66F0-4B9B-96D0-55315A1F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9DA418-8779-45F1-B3ED-C2E16277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2495-DC54-47BE-9A3B-0DCB1025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CF3A-2661-4284-8CB5-D94B8198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88FC-21E6-467C-BCF3-7876B3E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A32D-F22E-446B-8DC7-034C443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0913-9028-4F59-9175-DD1081615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129E7-76B4-4329-A3F7-358069EAC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61E4-4A04-4EC4-B305-4F642E8E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C45FF-5173-45CD-ADA9-1C970F6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2BE28-13F7-4336-A843-CF633828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83371-316B-4BAF-8B37-31145E0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0DC92-13A9-497B-A42C-9E9A483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E2F0F-17BD-420D-B10E-33076E76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BAB56-1BF4-4885-9CEB-E53C81B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B8416-9CDD-4316-9023-972A0B9C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43314-2A7A-4BD2-A954-D4B2E8A6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656CA-A5F2-41AB-BB08-D87AC3D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C3CBD-CB67-4819-8D7D-6FE8A57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8DBD-D871-4175-AD83-91AAE1F4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51839-3D10-48C8-BAEA-969C63D556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534F0-CFAA-44F8-BB0B-1DD13C5E0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0CB1F-DA3F-4817-94A8-0599478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2209BF-0D11-4529-9670-D42CDEC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FF7CD-8B9D-4B5F-9771-83AA10B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EF0B2-FBAB-44B8-8DA9-1B96C478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F5ABF-0CE7-4CCA-ACC5-B191A4A4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B1B8E-6057-45DA-8FEB-11A8E2F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D660B2-B272-4806-9726-141BE5EF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F7B81-873F-4CA5-BBC5-A13DFEF5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5E32-5CDE-4A31-89C6-8EFEC11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5E0AC-3619-43B3-A8DE-8888C5B4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825AA-9294-469D-B333-4C0A6AF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0FF47-9182-4C81-9713-60B7E192B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ED5B-8A3C-472E-ACC5-FC720C389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4348F-D176-417D-A5C1-76B4BD37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119C-3F64-4E6D-94FE-E83FDF1A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AA3BD-B6AD-4A03-B2A2-1C46DE34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7C5E-BE27-4D21-9081-49D80933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BA48-AD73-4177-A88A-FA86BA6F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F982-A5CB-42EE-A85E-C4E6824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9AD4-943A-4054-87A6-99CEB81F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6E40-4C7B-416F-839F-08715EE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9DE2-2213-4CD7-88B4-33F9F024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F731C-EC46-4E67-9F48-12E2561F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12FB4-420E-4CED-A588-BE8DC87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2A5D0-4FCD-4EEA-9769-6F5F4A516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D7975-3A6F-41A3-BA15-4B5955905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8EB91-13AF-4876-AA3C-DB674F9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30002-D2F9-4571-BB41-611ED1AF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3B06C-B61B-4611-A1B2-D0F532A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DC202-A01C-4137-8DA4-D3E1ED85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BF7E-4D9E-4E70-B784-C9FA207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EE282-2540-49DE-A39B-BEA57A21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98E88-2B17-4B6C-8376-F03FCB19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1396A-09F1-4515-AF92-1693DA14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76073-BD0F-49A2-BEF2-405B322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0D6B3-B69D-40AC-80CF-B11C57C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64BA6-E58A-4D39-BB1D-DA66DC7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CCACA-6E9C-4220-AA0A-E52C268E7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36D8A-B2F3-44B9-865D-7A358B7D8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D490B-14A0-4D17-A16C-3B2A928E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5ED014-75CB-4B63-94AA-1420ACC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1508-C4AE-46D2-9831-6CA73F143F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B7C-5316-4C9C-AAC7-D21042A84D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A12D-8825-4B76-953E-F941995DA00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8729-FB54-4D03-9883-F16B245A43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08A7-DC9E-400D-BB0B-9DC4405868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6D7-844B-4E0B-8638-990CDFB646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32BA-CB46-46FF-8F24-A7838C92051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27D-49F0-4D90-B762-5CCCB8A267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FBBB-4834-49D6-84CD-CB4E46C4B9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81B-919D-4909-A087-CD9DC8561B4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0397-AA6F-48B2-A568-F38449726A4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5970-225C-403E-8F60-3927DB3A04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19C2-E0F3-4D2A-A247-9FFA6FB444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6711-B784-4697-884D-20DA3A3F1D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2673-DC37-49B5-B401-2A0844B025B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6356-7992-475C-90CB-41B7DC75CD4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9496-489C-404D-B91D-212928CEF3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C7B-EA3E-4301-9658-4D8ABC53A3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4515-9A6D-41EF-952F-41CAA85FCA9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8E1-40BC-462A-AC4E-E5222EA7910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386-E72B-4B18-89B7-711647CFF7C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EC9-8DA6-4C0E-908A-F5BED99185F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FD58-6C21-4328-9949-B76A80745CF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76E-6ABA-460F-A8E7-B91F6BCCDB6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557-1B51-4B89-81E9-4E2D429DD56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5404-BCC0-47A4-AEAD-6BFDD77F26F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174-7CF9-49B1-85F5-7D5494489D9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22C-6B87-409E-9FE6-615E4CBE17B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D39-9A30-4B6E-9379-D738E2C0B16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0D3-E5CF-4952-AEA5-FABCB5696F3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09B4-0997-4E9F-A31E-4408BE7C071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2F70-E20F-4549-AFD7-767511400E9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DE54-BF67-48C9-AF15-F5FF652886F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289-364A-4896-9E70-E67A7524522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1773-8AD4-4802-A292-71E4B0E8D21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CB43-3BEC-4CBB-B8B5-3E996752D8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547640" y="1844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解决问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图片 27649" descr="84"/>
          <p:cNvPicPr/>
          <p:nvPr/>
        </p:nvPicPr>
        <p:blipFill>
          <a:blip r:embed="rId1"/>
          <a:stretch/>
        </p:blipFill>
        <p:spPr>
          <a:xfrm>
            <a:off x="601560" y="1384200"/>
            <a:ext cx="6229440" cy="2159280"/>
          </a:xfrm>
          <a:prstGeom prst="rect">
            <a:avLst/>
          </a:prstGeom>
          <a:ln w="0">
            <a:noFill/>
          </a:ln>
        </p:spPr>
      </p:pic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3"/>
          <p:cNvSpPr/>
          <p:nvPr/>
        </p:nvSpPr>
        <p:spPr>
          <a:xfrm>
            <a:off x="324000" y="1494000"/>
            <a:ext cx="115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8" name="TextBox 4"/>
          <p:cNvSpPr/>
          <p:nvPr/>
        </p:nvSpPr>
        <p:spPr>
          <a:xfrm>
            <a:off x="4888080" y="219564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初鸡蛋价格比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涨了还是跌了？涨跌幅度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多少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9" name="TextBox 10"/>
          <p:cNvSpPr/>
          <p:nvPr/>
        </p:nvSpPr>
        <p:spPr>
          <a:xfrm>
            <a:off x="3780000" y="3664080"/>
            <a:ext cx="5905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3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3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6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6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初鸡蛋价格比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初跌了，跌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6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0" name="组合 27654"/>
          <p:cNvGrpSpPr/>
          <p:nvPr/>
        </p:nvGrpSpPr>
        <p:grpSpPr>
          <a:xfrm>
            <a:off x="250920" y="3933720"/>
            <a:ext cx="3546360" cy="1825560"/>
            <a:chOff x="250920" y="3933720"/>
            <a:chExt cx="3546360" cy="1825560"/>
          </a:xfrm>
        </p:grpSpPr>
        <p:sp>
          <p:nvSpPr>
            <p:cNvPr id="1571" name="AutoShape 27"/>
            <p:cNvSpPr/>
            <p:nvPr/>
          </p:nvSpPr>
          <p:spPr>
            <a:xfrm>
              <a:off x="1547640" y="4076640"/>
              <a:ext cx="2249640" cy="1682640"/>
            </a:xfrm>
            <a:prstGeom prst="wedgeRoundRectCallout">
              <a:avLst>
                <a:gd name="adj1" fmla="val -60513"/>
                <a:gd name="adj2" fmla="val -15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先和同桌说一说你的想法，再用你自己最喜欢的方法做一做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72" name="图片 27656" descr="67"/>
            <p:cNvPicPr/>
            <p:nvPr/>
          </p:nvPicPr>
          <p:blipFill>
            <a:blip r:embed="rId2"/>
            <a:stretch/>
          </p:blipFill>
          <p:spPr>
            <a:xfrm>
              <a:off x="250920" y="393372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Box 3"/>
          <p:cNvSpPr/>
          <p:nvPr/>
        </p:nvSpPr>
        <p:spPr>
          <a:xfrm>
            <a:off x="324000" y="1501920"/>
            <a:ext cx="943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服装店的老板，将两件不同的衣服均以每件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0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元的价格出售，结果一件赚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另一件赔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小刚说这个老板正好不赔也不赚。你同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刚的说法吗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5" name="TextBox 15"/>
          <p:cNvSpPr/>
          <p:nvPr/>
        </p:nvSpPr>
        <p:spPr>
          <a:xfrm>
            <a:off x="3635280" y="3573360"/>
            <a:ext cx="51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2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6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2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7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7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＞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6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老板赔了，小刚说得不对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6" name="组合 28676"/>
          <p:cNvGrpSpPr/>
          <p:nvPr/>
        </p:nvGrpSpPr>
        <p:grpSpPr>
          <a:xfrm>
            <a:off x="203040" y="4149720"/>
            <a:ext cx="3367080" cy="1800360"/>
            <a:chOff x="203040" y="4149720"/>
            <a:chExt cx="3367080" cy="1800360"/>
          </a:xfrm>
        </p:grpSpPr>
        <p:sp>
          <p:nvSpPr>
            <p:cNvPr id="1577" name="AutoShape 27"/>
            <p:cNvSpPr/>
            <p:nvPr/>
          </p:nvSpPr>
          <p:spPr>
            <a:xfrm>
              <a:off x="1355400" y="4292640"/>
              <a:ext cx="2214720" cy="530280"/>
            </a:xfrm>
            <a:prstGeom prst="wedgeRoundRectCallout">
              <a:avLst>
                <a:gd name="adj1" fmla="val -59388"/>
                <a:gd name="adj2" fmla="val 583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是这样想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78" name="图片 28678" descr="67"/>
            <p:cNvPicPr/>
            <p:nvPr/>
          </p:nvPicPr>
          <p:blipFill>
            <a:blip r:embed="rId1"/>
            <a:stretch/>
          </p:blipFill>
          <p:spPr>
            <a:xfrm>
              <a:off x="203040" y="414972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0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1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83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84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86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87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3"/>
          <p:cNvSpPr/>
          <p:nvPr/>
        </p:nvSpPr>
        <p:spPr>
          <a:xfrm>
            <a:off x="468360" y="1521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说一说下面各题中表示单位“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量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4"/>
          <p:cNvSpPr/>
          <p:nvPr/>
        </p:nvSpPr>
        <p:spPr>
          <a:xfrm>
            <a:off x="324000" y="220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连环画的本数是故事书本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7.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直接连接符 11"/>
          <p:cNvSpPr/>
          <p:nvPr/>
        </p:nvSpPr>
        <p:spPr>
          <a:xfrm>
            <a:off x="2916360" y="2670120"/>
            <a:ext cx="1150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8" name="组合 20"/>
          <p:cNvGrpSpPr/>
          <p:nvPr/>
        </p:nvGrpSpPr>
        <p:grpSpPr>
          <a:xfrm>
            <a:off x="324000" y="3068640"/>
            <a:ext cx="8532720" cy="675720"/>
            <a:chOff x="324000" y="3068640"/>
            <a:chExt cx="8532720" cy="675720"/>
          </a:xfrm>
        </p:grpSpPr>
        <p:sp>
          <p:nvSpPr>
            <p:cNvPr id="1489" name="TextBox 12"/>
            <p:cNvSpPr/>
            <p:nvPr/>
          </p:nvSpPr>
          <p:spPr>
            <a:xfrm>
              <a:off x="324000" y="3068640"/>
              <a:ext cx="85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美术小组的人数相当于科技小组人数的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TextBox 17"/>
            <p:cNvSpPr/>
            <p:nvPr/>
          </p:nvSpPr>
          <p:spPr>
            <a:xfrm>
              <a:off x="7453440" y="328464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1" name="直接连接符 19"/>
          <p:cNvSpPr/>
          <p:nvPr/>
        </p:nvSpPr>
        <p:spPr>
          <a:xfrm>
            <a:off x="3708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TextBox 21"/>
          <p:cNvSpPr/>
          <p:nvPr/>
        </p:nvSpPr>
        <p:spPr>
          <a:xfrm>
            <a:off x="324000" y="3932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冰箱价格的     是洗衣机的价格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直接连接符 29"/>
          <p:cNvSpPr/>
          <p:nvPr/>
        </p:nvSpPr>
        <p:spPr>
          <a:xfrm>
            <a:off x="1116000" y="43848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TextBox 30"/>
          <p:cNvSpPr/>
          <p:nvPr/>
        </p:nvSpPr>
        <p:spPr>
          <a:xfrm>
            <a:off x="324000" y="4776840"/>
            <a:ext cx="88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苹果树的棵数是梨树棵数的     ，桃树棵数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苹果树棵数的 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直接连接符 39"/>
          <p:cNvSpPr/>
          <p:nvPr/>
        </p:nvSpPr>
        <p:spPr>
          <a:xfrm>
            <a:off x="2881440" y="52722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直接连接符 41"/>
          <p:cNvSpPr/>
          <p:nvPr/>
        </p:nvSpPr>
        <p:spPr>
          <a:xfrm>
            <a:off x="1116000" y="57484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7" name="组合 19470"/>
          <p:cNvGrpSpPr/>
          <p:nvPr/>
        </p:nvGrpSpPr>
        <p:grpSpPr>
          <a:xfrm>
            <a:off x="2386080" y="3745080"/>
            <a:ext cx="511200" cy="815040"/>
            <a:chOff x="2386080" y="3745080"/>
            <a:chExt cx="511200" cy="815040"/>
          </a:xfrm>
        </p:grpSpPr>
        <p:sp>
          <p:nvSpPr>
            <p:cNvPr id="1498" name="文本框 19471"/>
            <p:cNvSpPr/>
            <p:nvPr/>
          </p:nvSpPr>
          <p:spPr>
            <a:xfrm>
              <a:off x="2392200" y="41004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9" name="文本框 19472"/>
            <p:cNvSpPr/>
            <p:nvPr/>
          </p:nvSpPr>
          <p:spPr>
            <a:xfrm>
              <a:off x="2386080" y="3745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0" name="直接连接符 19473"/>
            <p:cNvSpPr/>
            <p:nvPr/>
          </p:nvSpPr>
          <p:spPr>
            <a:xfrm>
              <a:off x="2430360" y="416412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1" name="组合 19474"/>
          <p:cNvGrpSpPr/>
          <p:nvPr/>
        </p:nvGrpSpPr>
        <p:grpSpPr>
          <a:xfrm>
            <a:off x="4160880" y="4732200"/>
            <a:ext cx="511200" cy="815400"/>
            <a:chOff x="4160880" y="4732200"/>
            <a:chExt cx="511200" cy="815400"/>
          </a:xfrm>
        </p:grpSpPr>
        <p:sp>
          <p:nvSpPr>
            <p:cNvPr id="1502" name="文本框 19475"/>
            <p:cNvSpPr/>
            <p:nvPr/>
          </p:nvSpPr>
          <p:spPr>
            <a:xfrm>
              <a:off x="4167000" y="5087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文本框 19476"/>
            <p:cNvSpPr/>
            <p:nvPr/>
          </p:nvSpPr>
          <p:spPr>
            <a:xfrm>
              <a:off x="4160880" y="4732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直接连接符 19477"/>
            <p:cNvSpPr/>
            <p:nvPr/>
          </p:nvSpPr>
          <p:spPr>
            <a:xfrm>
              <a:off x="4205160" y="515160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5" name="组合 19478"/>
          <p:cNvGrpSpPr/>
          <p:nvPr/>
        </p:nvGrpSpPr>
        <p:grpSpPr>
          <a:xfrm>
            <a:off x="2584440" y="5146560"/>
            <a:ext cx="511200" cy="815400"/>
            <a:chOff x="2584440" y="5146560"/>
            <a:chExt cx="511200" cy="815400"/>
          </a:xfrm>
        </p:grpSpPr>
        <p:sp>
          <p:nvSpPr>
            <p:cNvPr id="1506" name="文本框 19479"/>
            <p:cNvSpPr/>
            <p:nvPr/>
          </p:nvSpPr>
          <p:spPr>
            <a:xfrm>
              <a:off x="2590560" y="55022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19480"/>
            <p:cNvSpPr/>
            <p:nvPr/>
          </p:nvSpPr>
          <p:spPr>
            <a:xfrm>
              <a:off x="2584440" y="5146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直接连接符 19481"/>
            <p:cNvSpPr/>
            <p:nvPr/>
          </p:nvSpPr>
          <p:spPr>
            <a:xfrm>
              <a:off x="2628720" y="556596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9" name="矩形 19483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0" name="矩形 19484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矩形 19485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4" name="组合 20483"/>
          <p:cNvGrpSpPr/>
          <p:nvPr/>
        </p:nvGrpSpPr>
        <p:grpSpPr>
          <a:xfrm>
            <a:off x="324000" y="2997360"/>
            <a:ext cx="4124160" cy="1800000"/>
            <a:chOff x="324000" y="2997360"/>
            <a:chExt cx="4124160" cy="1800000"/>
          </a:xfrm>
        </p:grpSpPr>
        <p:sp>
          <p:nvSpPr>
            <p:cNvPr id="1515" name="AutoShape 27"/>
            <p:cNvSpPr/>
            <p:nvPr/>
          </p:nvSpPr>
          <p:spPr>
            <a:xfrm>
              <a:off x="1566720" y="3259080"/>
              <a:ext cx="2881440" cy="888480"/>
            </a:xfrm>
            <a:prstGeom prst="wedgeRoundRectCallout">
              <a:avLst>
                <a:gd name="adj1" fmla="val -57217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读一读题，你都知道了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16" name="图片 20485" descr="67"/>
            <p:cNvPicPr/>
            <p:nvPr/>
          </p:nvPicPr>
          <p:blipFill>
            <a:blip r:embed="rId1"/>
            <a:stretch/>
          </p:blipFill>
          <p:spPr>
            <a:xfrm>
              <a:off x="324000" y="299736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7" name="组合 20486"/>
          <p:cNvGrpSpPr/>
          <p:nvPr/>
        </p:nvGrpSpPr>
        <p:grpSpPr>
          <a:xfrm>
            <a:off x="4067280" y="4149720"/>
            <a:ext cx="4886280" cy="2087640"/>
            <a:chOff x="4067280" y="4149720"/>
            <a:chExt cx="4886280" cy="2087640"/>
          </a:xfrm>
        </p:grpSpPr>
        <p:sp>
          <p:nvSpPr>
            <p:cNvPr id="1518" name="AutoShape 27"/>
            <p:cNvSpPr/>
            <p:nvPr/>
          </p:nvSpPr>
          <p:spPr>
            <a:xfrm>
              <a:off x="4067280" y="4149720"/>
              <a:ext cx="3386160" cy="2087640"/>
            </a:xfrm>
            <a:prstGeom prst="wedgeRoundRectCallout">
              <a:avLst>
                <a:gd name="adj1" fmla="val 59472"/>
                <a:gd name="adj2" fmla="val -242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现在我们只知道每两个月之间价格的变化幅度，但商品原来的价格却未知，想一想可以怎么办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会解答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19" name="图片 20488" descr="49"/>
            <p:cNvPicPr/>
            <p:nvPr/>
          </p:nvPicPr>
          <p:blipFill>
            <a:blip r:embed="rId2"/>
            <a:stretch/>
          </p:blipFill>
          <p:spPr>
            <a:xfrm>
              <a:off x="7524720" y="414972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0" name="矩形 20490"/>
          <p:cNvSpPr/>
          <p:nvPr/>
        </p:nvSpPr>
        <p:spPr>
          <a:xfrm>
            <a:off x="2142720" y="5300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23"/>
          <p:cNvSpPr/>
          <p:nvPr/>
        </p:nvSpPr>
        <p:spPr>
          <a:xfrm>
            <a:off x="3540240" y="2925720"/>
            <a:ext cx="61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价格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价格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0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价格比较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＜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变化幅度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比降了，变化幅度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降低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3" name="组合 21507"/>
          <p:cNvGrpSpPr/>
          <p:nvPr/>
        </p:nvGrpSpPr>
        <p:grpSpPr>
          <a:xfrm>
            <a:off x="-54000" y="2997360"/>
            <a:ext cx="3816360" cy="1800000"/>
            <a:chOff x="-54000" y="2997360"/>
            <a:chExt cx="3816360" cy="1800000"/>
          </a:xfrm>
        </p:grpSpPr>
        <p:sp>
          <p:nvSpPr>
            <p:cNvPr id="1524" name="AutoShape 27"/>
            <p:cNvSpPr/>
            <p:nvPr/>
          </p:nvSpPr>
          <p:spPr>
            <a:xfrm>
              <a:off x="1189080" y="3259080"/>
              <a:ext cx="2573280" cy="889200"/>
            </a:xfrm>
            <a:prstGeom prst="wedgeRoundRectCallout">
              <a:avLst>
                <a:gd name="adj1" fmla="val -58083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可以假设此商品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月的价格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元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25" name="图片 21509" descr="67"/>
            <p:cNvPicPr/>
            <p:nvPr/>
          </p:nvPicPr>
          <p:blipFill>
            <a:blip r:embed="rId1"/>
            <a:stretch/>
          </p:blipFill>
          <p:spPr>
            <a:xfrm>
              <a:off x="-54000" y="299736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6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13"/>
          <p:cNvSpPr/>
          <p:nvPr/>
        </p:nvSpPr>
        <p:spPr>
          <a:xfrm>
            <a:off x="684360" y="3933720"/>
            <a:ext cx="8459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比降了，变化幅度是降低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9" name="组合 22531"/>
          <p:cNvGrpSpPr/>
          <p:nvPr/>
        </p:nvGrpSpPr>
        <p:grpSpPr>
          <a:xfrm>
            <a:off x="0" y="2924280"/>
            <a:ext cx="3203640" cy="1800000"/>
            <a:chOff x="0" y="2924280"/>
            <a:chExt cx="3203640" cy="1800000"/>
          </a:xfrm>
        </p:grpSpPr>
        <p:sp>
          <p:nvSpPr>
            <p:cNvPr id="1530" name="AutoShape 27"/>
            <p:cNvSpPr/>
            <p:nvPr/>
          </p:nvSpPr>
          <p:spPr>
            <a:xfrm>
              <a:off x="1243080" y="3186000"/>
              <a:ext cx="1960560" cy="888480"/>
            </a:xfrm>
            <a:prstGeom prst="wedgeRoundRectCallout">
              <a:avLst>
                <a:gd name="adj1" fmla="val -60606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想一想还可以怎样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31" name="图片 22533" descr="67"/>
            <p:cNvPicPr/>
            <p:nvPr/>
          </p:nvPicPr>
          <p:blipFill>
            <a:blip r:embed="rId1"/>
            <a:stretch/>
          </p:blipFill>
          <p:spPr>
            <a:xfrm>
              <a:off x="0" y="292428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2" name="组合 22534"/>
          <p:cNvGrpSpPr/>
          <p:nvPr/>
        </p:nvGrpSpPr>
        <p:grpSpPr>
          <a:xfrm>
            <a:off x="4067280" y="2997360"/>
            <a:ext cx="4608360" cy="1798560"/>
            <a:chOff x="4067280" y="2997360"/>
            <a:chExt cx="4608360" cy="1798560"/>
          </a:xfrm>
        </p:grpSpPr>
        <p:sp>
          <p:nvSpPr>
            <p:cNvPr id="1533" name="AutoShape 27"/>
            <p:cNvSpPr/>
            <p:nvPr/>
          </p:nvSpPr>
          <p:spPr>
            <a:xfrm>
              <a:off x="4067280" y="3286440"/>
              <a:ext cx="3097080" cy="936360"/>
            </a:xfrm>
            <a:prstGeom prst="wedgeRoundRectCallout">
              <a:avLst>
                <a:gd name="adj1" fmla="val 57277"/>
                <a:gd name="adj2" fmla="val -23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也可以直接假设此商品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月的价格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34" name="图片 22536" descr="49"/>
            <p:cNvPicPr/>
            <p:nvPr/>
          </p:nvPicPr>
          <p:blipFill>
            <a:blip r:embed="rId2"/>
            <a:stretch/>
          </p:blipFill>
          <p:spPr>
            <a:xfrm>
              <a:off x="7246800" y="299736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5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20"/>
          <p:cNvSpPr/>
          <p:nvPr/>
        </p:nvSpPr>
        <p:spPr>
          <a:xfrm>
            <a:off x="647640" y="5010120"/>
            <a:ext cx="8461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比降了，变化幅度是降低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8" name="组合 23555"/>
          <p:cNvGrpSpPr/>
          <p:nvPr/>
        </p:nvGrpSpPr>
        <p:grpSpPr>
          <a:xfrm>
            <a:off x="34920" y="3357720"/>
            <a:ext cx="4427640" cy="1414440"/>
            <a:chOff x="34920" y="3357720"/>
            <a:chExt cx="4427640" cy="1414440"/>
          </a:xfrm>
        </p:grpSpPr>
        <p:pic>
          <p:nvPicPr>
            <p:cNvPr id="1539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34920" y="3357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0" name="AutoShape 27"/>
            <p:cNvSpPr/>
            <p:nvPr/>
          </p:nvSpPr>
          <p:spPr>
            <a:xfrm>
              <a:off x="1366920" y="3357720"/>
              <a:ext cx="3095640" cy="576360"/>
            </a:xfrm>
            <a:prstGeom prst="wedgeRoundRectCallout">
              <a:avLst>
                <a:gd name="adj1" fmla="val -42513"/>
                <a:gd name="adj2" fmla="val 87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做对了吗？检查一下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1" name="AutoShape 27"/>
          <p:cNvSpPr/>
          <p:nvPr/>
        </p:nvSpPr>
        <p:spPr>
          <a:xfrm>
            <a:off x="4716360" y="2781360"/>
            <a:ext cx="2860920" cy="2087640"/>
          </a:xfrm>
          <a:prstGeom prst="wedgeRoundRectCallout">
            <a:avLst>
              <a:gd name="adj1" fmla="val 58157"/>
              <a:gd name="adj2" fmla="val -119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是这样检查的：如果假设此商品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的价格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元，发现得到的结论和前面得到的结论是一致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2" name="图片 23559" descr="67"/>
          <p:cNvPicPr/>
          <p:nvPr/>
        </p:nvPicPr>
        <p:blipFill>
          <a:blip r:embed="rId2"/>
          <a:stretch/>
        </p:blipFill>
        <p:spPr>
          <a:xfrm>
            <a:off x="7812000" y="2781360"/>
            <a:ext cx="1122480" cy="1800000"/>
          </a:xfrm>
          <a:prstGeom prst="rect">
            <a:avLst/>
          </a:prstGeom>
          <a:ln w="0">
            <a:noFill/>
          </a:ln>
        </p:spPr>
      </p:pic>
      <p:sp>
        <p:nvSpPr>
          <p:cNvPr id="1543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组合 24578"/>
          <p:cNvGrpSpPr/>
          <p:nvPr/>
        </p:nvGrpSpPr>
        <p:grpSpPr>
          <a:xfrm>
            <a:off x="395280" y="4653000"/>
            <a:ext cx="3348000" cy="1800000"/>
            <a:chOff x="395280" y="4653000"/>
            <a:chExt cx="3348000" cy="1800000"/>
          </a:xfrm>
        </p:grpSpPr>
        <p:sp>
          <p:nvSpPr>
            <p:cNvPr id="1546" name="AutoShape 27"/>
            <p:cNvSpPr/>
            <p:nvPr/>
          </p:nvSpPr>
          <p:spPr>
            <a:xfrm>
              <a:off x="1638360" y="4914720"/>
              <a:ext cx="2104920" cy="889200"/>
            </a:xfrm>
            <a:prstGeom prst="wedgeRoundRectCallout">
              <a:avLst>
                <a:gd name="adj1" fmla="val -59879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因为单位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“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不同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7" name="图片 24580" descr="67"/>
            <p:cNvPicPr/>
            <p:nvPr/>
          </p:nvPicPr>
          <p:blipFill>
            <a:blip r:embed="rId1"/>
            <a:stretch/>
          </p:blipFill>
          <p:spPr>
            <a:xfrm>
              <a:off x="395280" y="465300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组合 24581"/>
          <p:cNvGrpSpPr/>
          <p:nvPr/>
        </p:nvGrpSpPr>
        <p:grpSpPr>
          <a:xfrm>
            <a:off x="3924360" y="2924280"/>
            <a:ext cx="4608360" cy="2015640"/>
            <a:chOff x="3924360" y="2924280"/>
            <a:chExt cx="4608360" cy="2015640"/>
          </a:xfrm>
        </p:grpSpPr>
        <p:sp>
          <p:nvSpPr>
            <p:cNvPr id="1549" name="AutoShape 27"/>
            <p:cNvSpPr/>
            <p:nvPr/>
          </p:nvSpPr>
          <p:spPr>
            <a:xfrm>
              <a:off x="3924360" y="3213000"/>
              <a:ext cx="3097080" cy="1726920"/>
            </a:xfrm>
            <a:prstGeom prst="wedgeRoundRectCallout">
              <a:avLst>
                <a:gd name="adj1" fmla="val 57277"/>
                <a:gd name="adj2" fmla="val -354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同学们想一想，为什么降价和涨价的幅度都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，但降价和涨价的具体钱数却不同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50" name="图片 24583" descr="49"/>
            <p:cNvPicPr/>
            <p:nvPr/>
          </p:nvPicPr>
          <p:blipFill>
            <a:blip r:embed="rId2"/>
            <a:stretch/>
          </p:blipFill>
          <p:spPr>
            <a:xfrm>
              <a:off x="7103880" y="292428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1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矩形 24585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矩形 24586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矩形 24587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矩形 24588"/>
          <p:cNvSpPr/>
          <p:nvPr/>
        </p:nvSpPr>
        <p:spPr>
          <a:xfrm>
            <a:off x="2711160" y="4130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矩形 24589"/>
          <p:cNvSpPr/>
          <p:nvPr/>
        </p:nvSpPr>
        <p:spPr>
          <a:xfrm>
            <a:off x="2927160" y="4346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3"/>
          <p:cNvSpPr/>
          <p:nvPr/>
        </p:nvSpPr>
        <p:spPr>
          <a:xfrm>
            <a:off x="324000" y="1496880"/>
            <a:ext cx="907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电视机厂计划某种型号的电视机比去年增产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实际又比计划的产量多生产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此型号的电视机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今年的实际产量是去年的百分之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TextBox 4"/>
          <p:cNvSpPr/>
          <p:nvPr/>
        </p:nvSpPr>
        <p:spPr>
          <a:xfrm>
            <a:off x="611280" y="3284640"/>
            <a:ext cx="367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0" name="TextBox 5"/>
          <p:cNvSpPr/>
          <p:nvPr/>
        </p:nvSpPr>
        <p:spPr>
          <a:xfrm>
            <a:off x="770040" y="3146400"/>
            <a:ext cx="67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法一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假设去年产量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今年计划产量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台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今年实际产量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台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今年的实际产量是去年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3"/>
          <p:cNvSpPr/>
          <p:nvPr/>
        </p:nvSpPr>
        <p:spPr>
          <a:xfrm>
            <a:off x="324000" y="1496880"/>
            <a:ext cx="907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电视机厂计划某种型号的电视机比去年增产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实际又比计划的产量多生产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此型号的电视机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今年的实际产量是去年的百分之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TextBox 4"/>
          <p:cNvSpPr/>
          <p:nvPr/>
        </p:nvSpPr>
        <p:spPr>
          <a:xfrm>
            <a:off x="611280" y="3284640"/>
            <a:ext cx="367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TextBox 3"/>
          <p:cNvSpPr/>
          <p:nvPr/>
        </p:nvSpPr>
        <p:spPr>
          <a:xfrm>
            <a:off x="934920" y="3284640"/>
            <a:ext cx="54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法二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假设去年产量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今年的实际产量是去年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0:59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